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D65-1A85-435B-BE29-55F168A5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A66-B2EA-41C0-AF6F-29D863E2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493-21DE-486E-8509-CA1949BD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367-0751-4A64-B895-D435B491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52E-DEB2-4A45-B0F1-0F14D052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5008-6712-4C5B-BB48-93D5284E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FE6C-2DA1-4907-BEEC-8FB80848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ACF5-39B8-444F-B9C9-B06B259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758F-B1BB-4A01-8E11-1C64D433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67C8-F8AF-4DEA-B573-6A57F2C2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504E-4907-4D42-8CCA-8EDF474D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CB2-8A3D-4021-9FA6-5AB2DE59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E09-5219-41A4-B4F8-1088130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B07-4FE7-42A2-9C54-E34696A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E319-BEF0-4D09-8801-989FA4F7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EC30-911F-4718-AFE7-EDA2149F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20EA-1958-4793-9052-A599564A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4FF-9C79-4568-9C3D-900D2B93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EFF-38D3-4024-BE36-54BEBC76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94B-CB35-4D9C-997A-51974FD5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B6B-B61E-4F62-B625-DB9E4207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235-A157-4AA3-9300-869753A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789-CDD6-4751-9AC2-A8096D0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572-3230-42A5-B5DB-440B95A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4A88-E1A6-4F31-9E73-32D23D22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rograma de Actualización"/>
          <p:cNvPicPr/>
          <p:nvPr/>
        </p:nvPicPr>
        <p:blipFill>
          <a:blip r:embed="rId4"/>
          <a:stretch/>
        </p:blipFill>
        <p:spPr>
          <a:xfrm>
            <a:off x="7715160" y="6000840"/>
            <a:ext cx="1357560" cy="646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4E45-7FC2-4E04-BE76-02241FE6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rentes.com/Image27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onsulss.com/images/ss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erencia de servicios de Sal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00" y="4357800"/>
            <a:ext cx="856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Juan Francisco Molina Rodrígu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6858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773360"/>
            <a:ext cx="748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rende el establecimiento de una estructura intencional de roles para las personas que pertenecen a una empresa. El propósito de la estructura de la organización es ayudar a crear un ambiente para el desempeño huma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155736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Naturaleza de la organ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División del trabaj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Departament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Jerarqu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ordin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Descentr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Organización formal e in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131280" y="54936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26920" y="8334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DIR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916280"/>
            <a:ext cx="76327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 la capacidad de influir en las personas para que orienten su entusiasmo hacia el logro de los objetivos de la organización y de grupo, lo cual esta relacionado con el aspecto predominantemente interpersonal de la administr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1413000"/>
            <a:ext cx="4114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acto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Toma de decis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anejo de confli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Negoci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Rendición de cu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62064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DIRE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921200" y="1405080"/>
            <a:ext cx="41148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24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50880" y="404640"/>
            <a:ext cx="71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1557360"/>
            <a:ext cx="7705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 la medición y corrección de las actividades de los subordinados para asegurar que los hechos se ajusten a los planes. Por tanto, mide el desempeño en relación con las metas y los planes, muestreando dónde existen desvi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89000"/>
            <a:ext cx="784872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istemas de infor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Monitor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upervi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istema y proceso de control del desempeñ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Planeación y control de operac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563640" y="40464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Gerencia: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Componentes y elemen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65343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  <a:ea typeface="Tahoma"/>
              </a:rPr>
              <a:t>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7160" y="1356840"/>
            <a:ext cx="77090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 dirigir, administrar los recursos, conseguir objetivos y metas y analizar los resultados para solucionar l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emás significa coordinar y motivar a las personas que trabajan en un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mbién es hacer el mejor uso de los recursos de que se disponen, asumiendo la responsabilidad de lo que se consume y de los resultados que se log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71960" y="5715000"/>
            <a:ext cx="4222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Tahoma"/>
              </a:rPr>
              <a:t>Ortún Rubio V. ¿Conocimiento para gestionar? Gest Clin San 1999;1:5-6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172880"/>
            <a:ext cx="8518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las empresas se les define como unidades productoras de bienes o servicios, se les puede clasificar en base a diferentes criterio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E ACUERDO A SUS OBJETIVOS 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e clasifican en publicas (no lucran) y privadas (tienen como objetivo lucr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E ACUERDO A SU FUNCIÓN 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dustriales (las que llevan a cabo cualquier cambio o alteración a la materia prima) , Comerciales (Las que distribuyen productos que otros fabrican) y de Servicios (Turismo, telefonía, Sal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c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EL QUE UTILIZA PROMYP 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l Programa de ayuda para la pequeña y mediana empresa y que clasifica a las empresas en micro, pequeña, mediana y grande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258920" y="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rencia y Dirección de  servicios de Sal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4296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gerencia en forma global, es entendida como un proceso de acción institucional que hace posible la conducción y administración de organizaciones y procesos productivos complejos para alcanzar objetivos determinados, se sustenta en la comunicación y la negociación como instrumentos que influyen en las personas para cambiar positivamente métodos de ejecución y movilizar recursos para mejorar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920" y="-716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rencia y Dirección de  servicio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38600" y="2521080"/>
            <a:ext cx="54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00"/>
                </a:solidFill>
                <a:latin typeface="Arial"/>
              </a:rPr>
              <a:t>Administr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00"/>
                </a:solidFill>
                <a:latin typeface="Arial"/>
              </a:rPr>
              <a:t>Contenido y Objeto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5447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gerencia es proceso cooperativo, por medio del cual un grupo de personas adopta decisiones bien informadas para dirigir acciones y complementar esfuerzos para la consecución de objetivos comunes y la resolución de problemas que requieren de la toma de decisiones inmediatas, optimizando los recursos existentes en la producción de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-716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rencia y Dirección de  servicio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71680" y="135684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 desarrollo de la gerencia en los sistemas y servicios de salud no se agota en la aplicación de teorías , métodos y técnicas de la administración, sino que implica un proceso orientado a un cambio estructural en los sistemas e instituciones que los componen y un cambio cultural en los grupos e individuos que las integ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Gerencia y Dirección de  servicio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4 CuadroTexto"/>
          <p:cNvSpPr/>
          <p:nvPr/>
        </p:nvSpPr>
        <p:spPr>
          <a:xfrm>
            <a:off x="1428840" y="507204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op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ap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no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3800" y="214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GERENCIA EN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85880" y="1138320"/>
            <a:ext cx="80722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Es un proceso de conducción y organización de los servicios de salud con espíritu empresarial, que permita el cumplimiento de la misión institucional y alcanzar una visión relacionadas con la satisfacción del usuario en función de un trato digno, mejor estado de salud y contribuyendo a su protección financie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lecha curvada hacia la derecha"/>
          <p:cNvSpPr/>
          <p:nvPr/>
        </p:nvSpPr>
        <p:spPr>
          <a:xfrm>
            <a:off x="4143240" y="3286080"/>
            <a:ext cx="1857600" cy="2143080"/>
          </a:xfrm>
          <a:custGeom>
            <a:avLst/>
            <a:gdLst>
              <a:gd name="textAreaLeft" fmla="*/ 248760 w 1857600"/>
              <a:gd name="textAreaRight" fmla="*/ 1608840 w 1857600"/>
              <a:gd name="textAreaTop" fmla="*/ 363600 h 2143080"/>
              <a:gd name="textAreaBottom" fmla="*/ 155520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1" stAng="-5400000" swAng="-5400000"/>
                <a:lnTo>
                  <a:pt x="0" y="12011"/>
                </a:lnTo>
                <a:arcTo wR="21600" hR="7331" stAng="10800000" swAng="-3164152"/>
                <a:lnTo>
                  <a:pt x="16200" y="21367"/>
                </a:lnTo>
                <a:lnTo>
                  <a:pt x="21600" y="17001"/>
                </a:lnTo>
                <a:lnTo>
                  <a:pt x="16200" y="12169"/>
                </a:lnTo>
                <a:lnTo>
                  <a:pt x="16200" y="14428"/>
                </a:lnTo>
                <a:arcTo wR="21600" hR="7331" stAng="7635848" swAng="2772868"/>
                <a:lnTo>
                  <a:pt x="1130" y="9671"/>
                </a:lnTo>
                <a:arcTo wR="21600" hR="7331" stAng="-10408716" swAng="5008716"/>
                <a:close/>
              </a:path>
              <a:path fill="darkenLess" w="21600" h="21600">
                <a:moveTo>
                  <a:pt x="21600" y="0"/>
                </a:moveTo>
                <a:arcTo wR="21600" hR="7331" stAng="-5400000" swAng="-5400000"/>
                <a:lnTo>
                  <a:pt x="0" y="7331"/>
                </a:lnTo>
                <a:arcTo wR="21600" hR="7331" stAng="10800000" swAng="-391284"/>
                <a:lnTo>
                  <a:pt x="1130" y="9671"/>
                </a:lnTo>
                <a:arcTo wR="21600" hR="7331" stAng="-10408716" swAng="5008716"/>
                <a:close/>
              </a:path>
            </a:pathLst>
          </a:cu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11 Flecha curvada hacia la derecha"/>
          <p:cNvSpPr/>
          <p:nvPr/>
        </p:nvSpPr>
        <p:spPr>
          <a:xfrm>
            <a:off x="2857680" y="1357200"/>
            <a:ext cx="1857240" cy="2143080"/>
          </a:xfrm>
          <a:custGeom>
            <a:avLst/>
            <a:gdLst>
              <a:gd name="textAreaLeft" fmla="*/ 248760 w 1857240"/>
              <a:gd name="textAreaRight" fmla="*/ 1608480 w 1857240"/>
              <a:gd name="textAreaTop" fmla="*/ 363600 h 2143080"/>
              <a:gd name="textAreaBottom" fmla="*/ 155520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1" stAng="-5400000" swAng="-5400000"/>
                <a:lnTo>
                  <a:pt x="0" y="12011"/>
                </a:lnTo>
                <a:arcTo wR="21600" hR="7331" stAng="10800000" swAng="-3164152"/>
                <a:lnTo>
                  <a:pt x="16200" y="21367"/>
                </a:lnTo>
                <a:lnTo>
                  <a:pt x="21600" y="17001"/>
                </a:lnTo>
                <a:lnTo>
                  <a:pt x="16200" y="12169"/>
                </a:lnTo>
                <a:lnTo>
                  <a:pt x="16200" y="14428"/>
                </a:lnTo>
                <a:arcTo wR="21600" hR="7331" stAng="7635848" swAng="2772868"/>
                <a:lnTo>
                  <a:pt x="1130" y="9671"/>
                </a:lnTo>
                <a:arcTo wR="21600" hR="7331" stAng="-10408716" swAng="5008716"/>
                <a:close/>
              </a:path>
              <a:path fill="darkenLess" w="21600" h="21600">
                <a:moveTo>
                  <a:pt x="21600" y="0"/>
                </a:moveTo>
                <a:arcTo wR="21600" hR="7331" stAng="-5400000" swAng="-5400000"/>
                <a:lnTo>
                  <a:pt x="0" y="7331"/>
                </a:lnTo>
                <a:arcTo wR="21600" hR="7331" stAng="10800000" swAng="-391284"/>
                <a:lnTo>
                  <a:pt x="1130" y="9671"/>
                </a:lnTo>
                <a:arcTo wR="21600" hR="7331" stAng="-10408716" swAng="5008716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8 Rectángulo redondeado"/>
          <p:cNvSpPr/>
          <p:nvPr/>
        </p:nvSpPr>
        <p:spPr>
          <a:xfrm>
            <a:off x="3286080" y="114300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Ger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9 Rectángulo redondeado"/>
          <p:cNvSpPr/>
          <p:nvPr/>
        </p:nvSpPr>
        <p:spPr>
          <a:xfrm>
            <a:off x="4786200" y="27860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Proceso Geren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10 Rectángulo redondeado"/>
          <p:cNvSpPr/>
          <p:nvPr/>
        </p:nvSpPr>
        <p:spPr>
          <a:xfrm>
            <a:off x="6000840" y="4429080"/>
            <a:ext cx="2857320" cy="1071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Organización o Instit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3800" y="214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Gerencia en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15 Grupo"/>
          <p:cNvGrpSpPr/>
          <p:nvPr/>
        </p:nvGrpSpPr>
        <p:grpSpPr>
          <a:xfrm>
            <a:off x="1087560" y="642960"/>
            <a:ext cx="1733400" cy="5572080"/>
            <a:chOff x="1087560" y="642960"/>
            <a:chExt cx="1733400" cy="5572080"/>
          </a:xfrm>
        </p:grpSpPr>
        <p:sp>
          <p:nvSpPr>
            <p:cNvPr id="152" name="14 Abrir llave"/>
            <p:cNvSpPr/>
            <p:nvPr/>
          </p:nvSpPr>
          <p:spPr>
            <a:xfrm rot="10800000">
              <a:off x="1285920" y="642960"/>
              <a:ext cx="1535040" cy="5572080"/>
            </a:xfrm>
            <a:custGeom>
              <a:avLst/>
              <a:gdLst>
                <a:gd name="textAreaLeft" fmla="*/ 980640 w 1535040"/>
                <a:gd name="textAreaRight" fmla="*/ 1535400 w 1535040"/>
                <a:gd name="textAreaTop" fmla="*/ 23400 h 5572080"/>
                <a:gd name="textAreaBottom" fmla="*/ 5548680 h 55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5"/>
                    <a:pt x="10800" y="290"/>
                  </a:cubicBezTo>
                  <a:lnTo>
                    <a:pt x="10800" y="10510"/>
                  </a:lnTo>
                  <a:cubicBezTo>
                    <a:pt x="10800" y="10655"/>
                    <a:pt x="5400" y="10800"/>
                    <a:pt x="0" y="10800"/>
                  </a:cubicBezTo>
                  <a:cubicBezTo>
                    <a:pt x="5400" y="10800"/>
                    <a:pt x="10800" y="10945"/>
                    <a:pt x="10800" y="11090"/>
                  </a:cubicBezTo>
                  <a:lnTo>
                    <a:pt x="10800" y="21310"/>
                  </a:lnTo>
                  <a:cubicBezTo>
                    <a:pt x="10800" y="21455"/>
                    <a:pt x="16200" y="21600"/>
                    <a:pt x="21600" y="21600"/>
                  </a:cubicBezTo>
                </a:path>
              </a:pathLst>
            </a:custGeom>
            <a:solidFill>
              <a:srgbClr val="333399"/>
            </a:solidFill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3"/>
            <p:cNvSpPr/>
            <p:nvPr/>
          </p:nvSpPr>
          <p:spPr>
            <a:xfrm>
              <a:off x="1087560" y="1928880"/>
              <a:ext cx="119844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752480" y="1454040"/>
            <a:ext cx="501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749400" y="500040"/>
            <a:ext cx="505692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33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Valores y Princip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c0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Usu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Pensamiento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Cultura Organiz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333399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Métodos Empresar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2214720" y="642960"/>
            <a:ext cx="1714320" cy="5295960"/>
          </a:xfrm>
          <a:custGeom>
            <a:avLst/>
            <a:gdLst>
              <a:gd name="textAreaLeft" fmla="*/ 1095480 w 1714320"/>
              <a:gd name="textAreaRight" fmla="*/ 1714680 w 1714320"/>
              <a:gd name="textAreaTop" fmla="*/ 188280 h 5295960"/>
              <a:gd name="textAreaBottom" fmla="*/ 5107680 h 529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1"/>
          <p:cNvSpPr/>
          <p:nvPr/>
        </p:nvSpPr>
        <p:spPr>
          <a:xfrm>
            <a:off x="5764320" y="1428840"/>
            <a:ext cx="2593800" cy="9507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7786800" y="2462040"/>
            <a:ext cx="393480" cy="2394000"/>
          </a:xfrm>
          <a:custGeom>
            <a:avLst/>
            <a:gdLst>
              <a:gd name="textAreaLeft" fmla="*/ 52560 w 393480"/>
              <a:gd name="textAreaRight" fmla="*/ 340920 w 393480"/>
              <a:gd name="textAreaTop" fmla="*/ 418680 h 2394000"/>
              <a:gd name="textAreaBottom" fmla="*/ 173556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714240" y="4481640"/>
            <a:ext cx="2594160" cy="101916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MX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IRECCI</a:t>
            </a:r>
            <a:r>
              <a:rPr b="0" lang="es-MX" sz="1800" spc="-1" strike="noStrike">
                <a:solidFill>
                  <a:srgbClr val="ffffff"/>
                </a:solidFill>
                <a:latin typeface="Arial Black"/>
              </a:rPr>
              <a:t>Ó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5540400" y="4375080"/>
            <a:ext cx="2317680" cy="1197000"/>
          </a:xfrm>
          <a:prstGeom prst="ellipse">
            <a:avLst/>
          </a:prstGeom>
          <a:solidFill>
            <a:srgbClr val="72bfc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785880" y="1366920"/>
            <a:ext cx="2514600" cy="9903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DESEMPEÑ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3462480" y="1341360"/>
            <a:ext cx="2609640" cy="412920"/>
          </a:xfrm>
          <a:custGeom>
            <a:avLst/>
            <a:gdLst>
              <a:gd name="textAreaLeft" fmla="*/ 484200 w 2609640"/>
              <a:gd name="textAreaRight" fmla="*/ 1901160 w 2609640"/>
              <a:gd name="textAreaTop" fmla="*/ 55080 h 412920"/>
              <a:gd name="textAreaBottom" fmla="*/ 357840 h 412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9" hR="21600" stAng="10800000" swAng="5400000"/>
                <a:lnTo>
                  <a:pt x="11727" y="0"/>
                </a:lnTo>
                <a:arcTo wR="8019" hR="21600" stAng="-5400000" swAng="2399187"/>
                <a:lnTo>
                  <a:pt x="20914" y="12857"/>
                </a:lnTo>
                <a:lnTo>
                  <a:pt x="17892" y="21600"/>
                </a:lnTo>
                <a:lnTo>
                  <a:pt x="13498" y="12857"/>
                </a:lnTo>
                <a:lnTo>
                  <a:pt x="15352" y="12857"/>
                </a:lnTo>
                <a:arcTo wR="8019" hR="21600" stAng="-3000813" swAng="-2096680"/>
                <a:lnTo>
                  <a:pt x="9873" y="585"/>
                </a:lnTo>
                <a:arcTo wR="8019" hR="21600" stAng="-5702507" swAng="-5097493"/>
                <a:close/>
              </a:path>
              <a:path fill="darkenLess" w="21600" h="21600">
                <a:moveTo>
                  <a:pt x="0" y="21600"/>
                </a:moveTo>
                <a:arcTo wR="8019" hR="21600" stAng="10800000" swAng="5400000"/>
                <a:lnTo>
                  <a:pt x="8019" y="0"/>
                </a:lnTo>
                <a:arcTo wR="8019" hR="21600" stAng="-5400000" swAng="302507"/>
                <a:lnTo>
                  <a:pt x="9873" y="585"/>
                </a:lnTo>
                <a:arcTo wR="8019" hR="21600" stAng="-5702507" swAng="-509749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28"/>
          <p:cNvSpPr/>
          <p:nvPr/>
        </p:nvSpPr>
        <p:spPr>
          <a:xfrm flipH="1" flipV="1">
            <a:off x="3214080" y="4962600"/>
            <a:ext cx="2214360" cy="449280"/>
          </a:xfrm>
          <a:custGeom>
            <a:avLst/>
            <a:gdLst>
              <a:gd name="textAreaLeft" fmla="*/ 429840 w 2214360"/>
              <a:gd name="textAreaRight" fmla="*/ 1619640 w 2214360"/>
              <a:gd name="textAreaTop" fmla="*/ 60120 h 449280"/>
              <a:gd name="textAreaBottom" fmla="*/ 389160 h 44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85" hR="21600" stAng="10800000" swAng="5400000"/>
                <a:lnTo>
                  <a:pt x="11606" y="0"/>
                </a:lnTo>
                <a:arcTo wR="8385" hR="21600" stAng="-5400000" swAng="2860331"/>
                <a:lnTo>
                  <a:pt x="21120" y="14400"/>
                </a:lnTo>
                <a:lnTo>
                  <a:pt x="18380" y="21600"/>
                </a:lnTo>
                <a:lnTo>
                  <a:pt x="14679" y="14400"/>
                </a:lnTo>
                <a:lnTo>
                  <a:pt x="16289" y="14400"/>
                </a:lnTo>
                <a:arcTo wR="8385" hR="21600" stAng="-2539669" swAng="-2599649"/>
                <a:lnTo>
                  <a:pt x="9995" y="402"/>
                </a:lnTo>
                <a:arcTo wR="8385" hR="21600" stAng="-5660682" swAng="-5139318"/>
                <a:close/>
              </a:path>
              <a:path fill="darkenLess" w="21600" h="21600">
                <a:moveTo>
                  <a:pt x="0" y="21600"/>
                </a:moveTo>
                <a:arcTo wR="8385" hR="21600" stAng="10800000" swAng="5400000"/>
                <a:lnTo>
                  <a:pt x="8385" y="0"/>
                </a:lnTo>
                <a:arcTo wR="8385" hR="21600" stAng="-5400000" swAng="260682"/>
                <a:lnTo>
                  <a:pt x="9995" y="402"/>
                </a:lnTo>
                <a:arcTo wR="8385" hR="21600" stAng="-5660682" swAng="-513931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29"/>
          <p:cNvSpPr/>
          <p:nvPr/>
        </p:nvSpPr>
        <p:spPr>
          <a:xfrm flipH="1" flipV="1">
            <a:off x="570600" y="2176560"/>
            <a:ext cx="471240" cy="2357280"/>
          </a:xfrm>
          <a:custGeom>
            <a:avLst/>
            <a:gdLst>
              <a:gd name="textAreaLeft" fmla="*/ 63000 w 471240"/>
              <a:gd name="textAreaRight" fmla="*/ 408240 w 471240"/>
              <a:gd name="textAreaTop" fmla="*/ 443520 h 2357280"/>
              <a:gd name="textAreaBottom" fmla="*/ 171936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28" stAng="-5400000" swAng="5400000"/>
                <a:lnTo>
                  <a:pt x="21600" y="11691"/>
                </a:lnTo>
                <a:arcTo wR="21600" hR="8128" stAng="0" swAng="2806984"/>
                <a:lnTo>
                  <a:pt x="7200" y="21135"/>
                </a:lnTo>
                <a:lnTo>
                  <a:pt x="0" y="18037"/>
                </a:lnTo>
                <a:lnTo>
                  <a:pt x="7200" y="14008"/>
                </a:lnTo>
                <a:lnTo>
                  <a:pt x="7200" y="15790"/>
                </a:lnTo>
                <a:arcTo wR="21600" hR="8128" stAng="2806984" swAng="-2517071"/>
                <a:lnTo>
                  <a:pt x="21075" y="9909"/>
                </a:lnTo>
                <a:arcTo wR="21600" hR="8128" stAng="-289912" swAng="-5110088"/>
                <a:close/>
              </a:path>
              <a:path fill="darkenLess" w="21600" h="21600">
                <a:moveTo>
                  <a:pt x="0" y="0"/>
                </a:moveTo>
                <a:arcTo wR="21600" hR="8128" stAng="-5400000" swAng="5400000"/>
                <a:lnTo>
                  <a:pt x="21600" y="11691"/>
                </a:lnTo>
                <a:arcTo wR="21600" hR="8128" stAng="0" swAng="-289912"/>
                <a:lnTo>
                  <a:pt x="21075" y="9909"/>
                </a:lnTo>
                <a:arcTo wR="21600" hR="8128" stAng="-289912" swAng="-5110088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3800" y="7128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300" spc="-1" strike="noStrike">
                <a:solidFill>
                  <a:srgbClr val="990000"/>
                </a:solidFill>
                <a:latin typeface="Arial"/>
              </a:rPr>
              <a:t>Proceso gerencial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6 Flecha cuádruple"/>
          <p:cNvSpPr/>
          <p:nvPr/>
        </p:nvSpPr>
        <p:spPr>
          <a:xfrm rot="19060800">
            <a:off x="2540160" y="1653840"/>
            <a:ext cx="3655800" cy="3330720"/>
          </a:xfrm>
          <a:custGeom>
            <a:avLst/>
            <a:gdLst>
              <a:gd name="textAreaLeft" fmla="*/ 374400 w 3655800"/>
              <a:gd name="textAreaRight" fmla="*/ 3281400 w 3655800"/>
              <a:gd name="textAreaTop" fmla="*/ 1290600 h 3330720"/>
              <a:gd name="textAreaBottom" fmla="*/ 2040120 h 3330720"/>
            </a:gdLst>
            <a:ahLst/>
            <a:rect l="textAreaLeft" t="textAreaTop" r="textAreaRight" b="textAreaBottom"/>
            <a:pathLst>
              <a:path w="3656013" h="3330575">
                <a:moveTo>
                  <a:pt x="0" y="1665288"/>
                </a:moveTo>
                <a:lnTo>
                  <a:pt x="749379" y="915908"/>
                </a:lnTo>
                <a:lnTo>
                  <a:pt x="749379" y="1290598"/>
                </a:lnTo>
                <a:lnTo>
                  <a:pt x="1453317" y="1290598"/>
                </a:lnTo>
                <a:lnTo>
                  <a:pt x="1453317" y="749379"/>
                </a:lnTo>
                <a:lnTo>
                  <a:pt x="1078627" y="749379"/>
                </a:lnTo>
                <a:lnTo>
                  <a:pt x="1828007" y="0"/>
                </a:lnTo>
                <a:lnTo>
                  <a:pt x="2577386" y="749379"/>
                </a:lnTo>
                <a:lnTo>
                  <a:pt x="2202696" y="749379"/>
                </a:lnTo>
                <a:lnTo>
                  <a:pt x="2202696" y="1290598"/>
                </a:lnTo>
                <a:lnTo>
                  <a:pt x="2906634" y="1290598"/>
                </a:lnTo>
                <a:lnTo>
                  <a:pt x="2906634" y="915908"/>
                </a:lnTo>
                <a:lnTo>
                  <a:pt x="3656013" y="1665288"/>
                </a:lnTo>
                <a:lnTo>
                  <a:pt x="2906634" y="2414667"/>
                </a:lnTo>
                <a:lnTo>
                  <a:pt x="2906634" y="2039977"/>
                </a:lnTo>
                <a:lnTo>
                  <a:pt x="2202696" y="2039977"/>
                </a:lnTo>
                <a:lnTo>
                  <a:pt x="2202696" y="2581196"/>
                </a:lnTo>
                <a:lnTo>
                  <a:pt x="2577386" y="2581196"/>
                </a:lnTo>
                <a:lnTo>
                  <a:pt x="1828007" y="3330575"/>
                </a:lnTo>
                <a:lnTo>
                  <a:pt x="1078627" y="2581196"/>
                </a:lnTo>
                <a:lnTo>
                  <a:pt x="1453317" y="2581196"/>
                </a:lnTo>
                <a:lnTo>
                  <a:pt x="1453317" y="2039977"/>
                </a:lnTo>
                <a:lnTo>
                  <a:pt x="749379" y="2039977"/>
                </a:lnTo>
                <a:lnTo>
                  <a:pt x="749379" y="2414667"/>
                </a:lnTo>
                <a:close/>
              </a:path>
            </a:pathLst>
          </a:custGeom>
          <a:solidFill>
            <a:srgbClr val="99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5"/>
          <p:cNvSpPr/>
          <p:nvPr/>
        </p:nvSpPr>
        <p:spPr>
          <a:xfrm rot="19207200">
            <a:off x="3079440" y="2873880"/>
            <a:ext cx="2371680" cy="916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LTURA ORGANIZ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22 Grupo"/>
          <p:cNvGrpSpPr/>
          <p:nvPr/>
        </p:nvGrpSpPr>
        <p:grpSpPr>
          <a:xfrm>
            <a:off x="0" y="5514840"/>
            <a:ext cx="8986320" cy="1128960"/>
            <a:chOff x="0" y="5514840"/>
            <a:chExt cx="8986320" cy="1128960"/>
          </a:xfrm>
        </p:grpSpPr>
        <p:sp>
          <p:nvSpPr>
            <p:cNvPr id="169" name="20 Llamada de flecha a la izquierda"/>
            <p:cNvSpPr/>
            <p:nvPr/>
          </p:nvSpPr>
          <p:spPr>
            <a:xfrm rot="5400000">
              <a:off x="3999600" y="1657080"/>
              <a:ext cx="1128960" cy="8844120"/>
            </a:xfrm>
            <a:prstGeom prst="leftArrowCallout">
              <a:avLst>
                <a:gd name="adj1" fmla="val -18727"/>
                <a:gd name="adj2" fmla="val 24989"/>
                <a:gd name="adj3" fmla="val 25000"/>
                <a:gd name="adj4" fmla="val 64983"/>
              </a:avLst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21 CuadroTexto"/>
            <p:cNvSpPr/>
            <p:nvPr/>
          </p:nvSpPr>
          <p:spPr>
            <a:xfrm>
              <a:off x="0" y="6072120"/>
              <a:ext cx="89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ahoma"/>
                </a:rPr>
                <a:t>PLANIFICACIO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3314880" y="1643040"/>
            <a:ext cx="5257800" cy="50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4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4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Departament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7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Organigra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7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Funciogra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7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4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4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Diseño y división del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4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Sistemas de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90440">
              <a:lnSpc>
                <a:spcPct val="14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892160" y="1071720"/>
            <a:ext cx="58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0000"/>
                </a:solidFill>
                <a:latin typeface="Arial"/>
              </a:rPr>
              <a:t>Diseño organizacion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424160" y="260280"/>
            <a:ext cx="75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Proceso gerenc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http://images.google.com/images?q=tbn:3HbqEKZ7rnw_YM:www.gerentes.com/Image27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643120"/>
            <a:ext cx="3100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643200" y="857160"/>
            <a:ext cx="4664160" cy="365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Liderazg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Motiv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Comun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600" spc="-1" strike="noStrike">
                <a:solidFill>
                  <a:srgbClr val="333399"/>
                </a:solidFill>
                <a:latin typeface="Tahoma"/>
              </a:rPr>
              <a:t>Trabajo en Equip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22320" y="1000080"/>
            <a:ext cx="60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Desarrollo organiz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200069865-003"/>
          <p:cNvPicPr/>
          <p:nvPr/>
        </p:nvPicPr>
        <p:blipFill>
          <a:blip r:embed="rId1"/>
          <a:stretch/>
        </p:blipFill>
        <p:spPr>
          <a:xfrm>
            <a:off x="357120" y="1500120"/>
            <a:ext cx="3814920" cy="3857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1424160" y="260280"/>
            <a:ext cx="75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Proceso gerenc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6" descr="http://images.google.com/images?q=tbn:8dOeobroEX7F5M:www.consulss.com/images/s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4714920"/>
            <a:ext cx="1724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376920" y="1143000"/>
            <a:ext cx="412920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Toma de deci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Manejo de conflic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Concer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Manejo de ima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990000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  <a:ea typeface="Tahoma"/>
              </a:rPr>
              <a:t>Rendición de cue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00120" y="1143000"/>
            <a:ext cx="546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ahoma"/>
              </a:rPr>
              <a:t>Dir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4160" y="260280"/>
            <a:ext cx="75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Proceso gerenc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8" descr="http://bligoo.com/media/users/0/24076/images/tontoutil.jpg"/>
          <p:cNvPicPr/>
          <p:nvPr/>
        </p:nvPicPr>
        <p:blipFill>
          <a:blip r:embed="rId2"/>
          <a:stretch/>
        </p:blipFill>
        <p:spPr>
          <a:xfrm>
            <a:off x="4500720" y="1714680"/>
            <a:ext cx="4429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42920" y="642960"/>
            <a:ext cx="55404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Efica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Efe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Protección financi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200000"/>
              </a:lnSpc>
              <a:buClr>
                <a:srgbClr val="9900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Equ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28760" y="1000080"/>
            <a:ext cx="65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990000"/>
                </a:solidFill>
                <a:latin typeface="Arial"/>
              </a:rPr>
              <a:t>Desempeño organiza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424160" y="260280"/>
            <a:ext cx="75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990000"/>
                </a:solidFill>
                <a:latin typeface="Arial"/>
              </a:rPr>
              <a:t>Proceso gerenc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6" descr="http://1.bp.blogspot.com/_5QcFH6FQMRw/RkkDPlMDBlI/AAAAAAAAAA0/8a4po5NPQ58/s400/Forges%252520contra%252520los%252520gerentes.jpg"/>
          <p:cNvPicPr/>
          <p:nvPr/>
        </p:nvPicPr>
        <p:blipFill>
          <a:blip r:embed="rId2"/>
          <a:stretch/>
        </p:blipFill>
        <p:spPr>
          <a:xfrm>
            <a:off x="4325760" y="1643040"/>
            <a:ext cx="48182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1341360"/>
            <a:ext cx="7999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La administración es un proceso, que consiste en las Actividades de Planeación, Organización, Dirección y Control encaminadas para alcanzar objetivos previamente señalados, con el apoyo de recursos financieros, tecnológicos y hum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530000" y="178596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0000"/>
                </a:solidFill>
                <a:latin typeface="Tahoma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676520" y="3549600"/>
            <a:ext cx="303840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262673"/>
                </a:solidFill>
                <a:latin typeface="Tahoma"/>
              </a:rPr>
              <a:t>Orientado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6b6bcf"/>
                </a:solidFill>
                <a:latin typeface="Tahoma"/>
              </a:rPr>
              <a:t>A los recurso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6b6bcf"/>
                </a:solidFill>
                <a:latin typeface="Tahoma"/>
              </a:rPr>
              <a:t>Eficienci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970240" y="17859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G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572080" y="3571920"/>
            <a:ext cx="33526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c00000"/>
                </a:solidFill>
                <a:latin typeface="Tahoma"/>
              </a:rPr>
              <a:t>Orientado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2060"/>
                </a:solidFill>
                <a:latin typeface="Tahoma"/>
              </a:rPr>
              <a:t>A la organizació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c00000"/>
                </a:solidFill>
                <a:latin typeface="Tahoma"/>
              </a:rPr>
              <a:t>Objetivo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Satisfacció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AG00090_"/>
          <p:cNvPicPr/>
          <p:nvPr/>
        </p:nvPicPr>
        <p:blipFill>
          <a:blip r:embed="rId1"/>
          <a:stretch/>
        </p:blipFill>
        <p:spPr>
          <a:xfrm>
            <a:off x="6442200" y="2460600"/>
            <a:ext cx="476280" cy="95724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93" name="Picture 7" descr="AG00090_"/>
          <p:cNvPicPr/>
          <p:nvPr/>
        </p:nvPicPr>
        <p:blipFill>
          <a:blip r:embed="rId2"/>
          <a:stretch/>
        </p:blipFill>
        <p:spPr>
          <a:xfrm>
            <a:off x="2492280" y="2460600"/>
            <a:ext cx="476280" cy="95724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8480" y="298440"/>
            <a:ext cx="6916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I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492200" y="125244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428840" y="2825640"/>
            <a:ext cx="28479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Planeació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Dirección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819040" y="125244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Tahoma"/>
              </a:rPr>
              <a:t>GE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724280" y="2860560"/>
            <a:ext cx="4324320" cy="33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990000"/>
                </a:solidFill>
                <a:latin typeface="Tahoma"/>
              </a:rPr>
              <a:t>Compone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Diseño organizacion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Desarrollo organizacion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Desempeño organizacion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9999"/>
              </a:buClr>
              <a:buSzPct val="75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500" spc="-1" strike="noStrike">
                <a:solidFill>
                  <a:srgbClr val="000000"/>
                </a:solidFill>
                <a:latin typeface="Tahoma"/>
              </a:rPr>
              <a:t>Direcció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6" descr="AG00090_"/>
          <p:cNvPicPr/>
          <p:nvPr/>
        </p:nvPicPr>
        <p:blipFill>
          <a:blip r:embed="rId1"/>
          <a:stretch/>
        </p:blipFill>
        <p:spPr>
          <a:xfrm>
            <a:off x="6442200" y="1908000"/>
            <a:ext cx="476280" cy="95760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200" name="Picture 7" descr="AG00090_"/>
          <p:cNvPicPr/>
          <p:nvPr/>
        </p:nvPicPr>
        <p:blipFill>
          <a:blip r:embed="rId2"/>
          <a:stretch/>
        </p:blipFill>
        <p:spPr>
          <a:xfrm>
            <a:off x="2492280" y="1908000"/>
            <a:ext cx="476280" cy="95760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3800" y="29844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DI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508640"/>
            <a:ext cx="77724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Arial"/>
              </a:rPr>
              <a:t>GERENTE SIN RUMBO </a:t>
            </a:r>
            <a:br>
              <a:rPr sz="4200"/>
            </a:br>
            <a:r>
              <a:rPr b="0" lang="en-US" sz="4200" spc="-1" strike="noStrike">
                <a:solidFill>
                  <a:srgbClr val="0000ff"/>
                </a:solidFill>
                <a:latin typeface="Arial"/>
              </a:rPr>
              <a:t>NO ES GERENTE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580000" y="765000"/>
            <a:ext cx="2895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DO" sz="2600" spc="-1" strike="noStrike">
                <a:solidFill>
                  <a:srgbClr val="000000"/>
                </a:solidFill>
                <a:latin typeface="Arial Black"/>
              </a:rPr>
              <a:t>Si usted no sabe hacia donde va, cualquier camino puede parecer bueno”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ahoma"/>
              </a:rPr>
              <a:t>Robbins S.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5" descr="bd07175_"/>
          <p:cNvPicPr/>
          <p:nvPr/>
        </p:nvPicPr>
        <p:blipFill>
          <a:blip r:embed="rId1"/>
          <a:stretch/>
        </p:blipFill>
        <p:spPr>
          <a:xfrm>
            <a:off x="826920" y="549360"/>
            <a:ext cx="4267440" cy="33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70040" y="685800"/>
            <a:ext cx="81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CONTEN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916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Recurso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001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Proceso Administrativ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0001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685960"/>
            <a:ext cx="1600200" cy="3505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838600"/>
            <a:ext cx="1676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8080"/>
                </a:solidFill>
                <a:latin typeface="Arial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8080"/>
                </a:solidFill>
                <a:latin typeface="Arial"/>
              </a:rPr>
              <a:t>Mater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808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8080"/>
                </a:solidFill>
                <a:latin typeface="Arial"/>
              </a:rPr>
              <a:t>Méto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8080"/>
                </a:solidFill>
                <a:latin typeface="Arial"/>
              </a:rPr>
              <a:t>Financiero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448080"/>
            <a:ext cx="5486400" cy="1676520"/>
          </a:xfrm>
          <a:custGeom>
            <a:avLst/>
            <a:gdLst>
              <a:gd name="textAreaLeft" fmla="*/ 857160 w 5486400"/>
              <a:gd name="textAreaRight" fmla="*/ 4800600 w 548640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314316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Planeació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314316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Direcció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81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1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4343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6640" y="685800"/>
            <a:ext cx="74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RECUR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38120" y="1989000"/>
            <a:ext cx="8381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Los recursos representan los insumos necesarios para poder implementar un proceso administrativo, vinculando los recursos financieros, los humanos y los materiales, apoyados con las nuevas tecnologías y los métodos tanto cuantitativos como cualit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95360" y="685800"/>
            <a:ext cx="87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PROCESO ADMINISTRA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84464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PLANE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DIR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6858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PLANE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998720"/>
            <a:ext cx="7766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 decidir con anticipación qué se debe de hacer, cómo hacerlo, dónde y quién lo hará. La planeación es el puente que va desde el lugar en donde estamos hasta el lugar donde queremos llegar en el futuro dese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8920" y="1557360"/>
            <a:ext cx="7380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Naturaleza de la plane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trategias y polít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Formulación de premi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Toma de decis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7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Planeación efe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476280"/>
            <a:ext cx="71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0000"/>
                </a:solidFill>
                <a:latin typeface="Arial"/>
              </a:rPr>
              <a:t>PLANE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46440" y="68580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628640"/>
            <a:ext cx="7561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990000"/>
                </a:solidFill>
                <a:latin typeface="Arial"/>
              </a:rPr>
              <a:t>Es el fin que perseguimos, el cual debe de ser claramente definido y alcanzable, medible y comparable, donde existe la obligación por parte de  todos los miembros de la organización de conocer la meta y buscar su cumplimient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52:58Z</dcterms:created>
  <dc:creator>mlgontes</dc:creator>
  <dc:description/>
  <dc:language>en-US</dc:language>
  <cp:lastModifiedBy>francisco.molina</cp:lastModifiedBy>
  <dcterms:modified xsi:type="dcterms:W3CDTF">2013-01-18T21:23:15Z</dcterms:modified>
  <cp:revision>81</cp:revision>
  <dc:subject/>
  <dc:title>¿QUÉ HACEN LOS DIRECTIVOS Y QUÉ HABILIDADES NECESITAN PARA UN TRABAJO EFECTIVO?</dc:title>
</cp:coreProperties>
</file>